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9ABB-226A-4C86-8D8A-1B51DD7E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8813-CBAF-47C3-B317-D22287C9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2D22-04F8-401A-B348-27AF44907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78C6-05CC-4244-827C-EB0F454F2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5F0C-C9B2-4F43-96AE-C247FCD4C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2E5A-B5D7-42E6-AB02-C83429E8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9856-7574-4FFD-A713-A138D061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4C1B-C5B7-4C02-AD94-7FA7D03E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6645-B1FB-422C-B038-F7641658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C050-AE7B-431C-AAFA-DED4B163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F9B0-86D5-4B4D-AE63-4ED9DF08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A37C-3372-44E7-BB9D-5289B382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A355-AF42-4B2E-B201-D727F8FE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CDBA-6F8E-4436-9835-E61B4B5E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9BE4-5683-439E-BA0F-E45B443B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B891-8FBB-4222-9627-2AD6A6FFD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C9BC-56FF-450C-9991-5C69CA681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EA33-73F8-4B62-A74A-A5520171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F8BB-B42B-447B-9A70-F457577E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A442-46A8-4036-A59A-E33D5D1E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C129-9459-4156-9CA8-E1D3AAB8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44DB-042D-47DD-B7F7-E2730013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A538-ED76-46EA-803F-A4C6E994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7E20-6534-4014-A327-E2CDEF49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FDDC-0EA9-4818-90C4-EDD49145A02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D56A-F337-4E47-96D4-60D46D0B45C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 Power of Relig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y: Jordan, Nicole, Maddy, Alex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undamentalism- in the U.S., a protestant movement characterized by the belief that the words of the Bible were inspired by God and should be interpreted literally and followed closel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vangelists- a fundamentalist preach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tler A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nnessee state law against the teaching of “any theory that denies the story of the Divine Creation of man as taught in the Bible.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st of the teachers of Tennessee wanted to challenge the Butler Ac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ohn Scopes’ trial began in July 10, 1925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34800" y="1371600"/>
            <a:ext cx="2988000" cy="38098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657600" y="1447920"/>
            <a:ext cx="4952880" cy="37335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131120" y="518148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ohn Scop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9880" y="5181480"/>
            <a:ext cx="20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arence Darr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45120" y="518148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illiam Jennings Bry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tler Act Cont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copes and Bryan both claimed victory on the trial. The jury took a couple of minutes to find Scoped guilty and fine him $100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Butler Act remained until 196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imee Semple McPhers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cPherson used show business to attract a radio following to her “Foursquare Gospel.”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 raised $1.5 million to construct her Angelus Templ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762280" y="685800"/>
            <a:ext cx="3619440" cy="54864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188160" y="6280200"/>
            <a:ext cx="29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imee Semple McPher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15:18:01Z</dcterms:created>
  <dc:creator>TECH</dc:creator>
  <dc:description/>
  <dc:language>en-US</dc:language>
  <cp:lastModifiedBy>ASD</cp:lastModifiedBy>
  <dcterms:modified xsi:type="dcterms:W3CDTF">2010-06-22T21:11:43Z</dcterms:modified>
  <cp:revision>3</cp:revision>
  <dc:subject/>
  <dc:title>The Power of Religion</dc:title>
</cp:coreProperties>
</file>